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96405-4FEB-47F5-A823-ACA2733B73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9CF5-F36C-4131-A9CD-7AAB748B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2C69-CCB1-4D25-9793-7BA21FFB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320C3-4E4F-4B4B-A6EB-B598A3372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49E5-0EB9-4EFA-A78D-7EDEE243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4C96-5C72-48F4-B0C4-0F91D2BD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117C-F761-453B-8066-CC5B80D6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4F99-D2ED-460E-9027-4E96407F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13C2-D056-4C89-8882-69788357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85A99-4A23-482B-8AE6-F95FE1FE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A888-E582-4902-B985-874EE8A4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7788-6BAB-4246-8A53-AB9E97CA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586F-373B-443A-8FBC-8BE984D17E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27664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肿瘤消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肝动脉和（或）门静脉区域化疗或经肝动脉化疗栓塞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anscatheter arterial chemoembolization,TA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、免疫治疗、中医中药治疗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原发性肝癌，行半肝切除术和术后化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会出现哪些并发症？②如何观察及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迅速生长导致肝被膜张力增加或放疗、化疗后的不适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食欲缺乏、恶心、呕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感性悲哀 与担忧疾病和生存期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，肝性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全身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凝血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性脑病预防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和维护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防止导管阻塞，注药后用肝素稀释液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5U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∕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冲洗导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动脉化疗栓塞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栓塞后综合征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白细胞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、肾功能损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健康人注意防治肝炎，不吃霉变食物，不饮用污染水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癌患者术后应注意休息，避免劳累。保持排便通畅，防止便秘，可适当食用缓泻剂，预防血氨升高。多食营养丰富和富含维生素的事物，以清淡、易消化为宜，如有腹水、水肿者应避免食用过多的盐。定期复查。一旦出现水肿、体重减轻、出血倾向、黄疸、疲乏等症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性肝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明，相关因素有肝炎、肝硬化史；饮食和生活习惯，有进食含黄曲霉菌的食品、有亚硝胺类致癌物的接触史等；家族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，有肝区压痛、上腹部肿块，有黄疸、腹水等体征，血清甲胎蛋白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测定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实行手术切除仍是最有效的治疗方法，辅以肿瘤消融、经肝动脉和（或）门静脉区域化疗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AC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放疗、免疫治疗、中医中药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加强心理支持，减轻或有效缓解疼痛，改善营养状况，术后加强并发症的预防和护理，坚持后续治疗。指导健康人注意防治肝炎，不吃霉变食物，不饮不洁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原发性肝癌发病的相关因素、常用的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原发性肝癌的典型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对确诊原发性肝癌的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原发性肝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liver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指发生于肝细胞和肝内胆管细胞上的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的病因尚未明确，可能与病毒性肝炎、肝硬化、黄曲霉素、亚硝胺类致癌物、水土等因素密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肝癌按大体类型分为结节型、巨块型、弥漫型三类，以结节型最多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4-1 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上腹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天入院。患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前无明显诱因出现右上腹疼痛，呈持续性钝痛，以夜间为明显，疼痛不向肩背部放射，不伴有发热及恶心、呕吐等表现。门诊查甲胎蛋白明显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发现肝有占位性病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考虑肝癌。患者自发病以来上腹疼痛逐渐加重，且出现乏力、腹胀、食欲下降，体重下降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既往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余年的乙型肝炎病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区疼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常见和最主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化道症状和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肝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、晚期肝癌的主要临床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有癌旁综合征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甲胎蛋白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lpha-fetoprote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F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测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酶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功能及乙肝抗体系统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肝癌定位检查中首选的一种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性腹腔动脉或肝动脉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穿刺活组织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探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年龄和性别，是否居住于肝癌高发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肝炎、肝硬化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的饮食和生活习惯，有无进食含黄曲霉菌的食品、饮用被污染的水源，以及有无亚硝胺类致癌物的接触史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无长期、滥用药物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家族中有无肝癌或其他肿瘤病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十四章 原发性肝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是目前治疗肝癌最为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式的选择应根据患者全身情况、肝硬变程度、肿瘤大小和部位以及肝代偿功能等而定，主要有肝部分切除术、肝叶切除术或半肝切除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33:06Z</dcterms:modified>
  <cp:revision>112</cp:revision>
  <dc:subject/>
  <dc:title>内科护理学</dc:title>
</cp:coreProperties>
</file>